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8.wmf" ContentType="image/x-wmf"/>
  <Override PartName="/ppt/media/image30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C01-3238-4FD4-8E72-9A4EE8C3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AA1-4784-4DD3-BD8C-C665ED31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12F-70E9-4928-9529-5FC721CE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E50-1DFA-4D94-9650-E767AF36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91DB-FF27-42A6-BB11-5DA3F683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C50B-CB28-4942-B81E-851B5BA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050D-A3FF-41DC-9B10-35741C53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B66-FF01-41F5-B395-4650A8ED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A8F3-6F5F-4EE2-A8D3-B2E3D8B0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CC0-40D5-4B7F-B7F8-A222B95F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DB65-68E2-425F-8969-C1CD34DC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C11-B909-4E05-8A7C-4752C14F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1890-7849-424D-A6A7-99BB495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BAA0-0EEA-4828-AD0E-4B3946DF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79C4-F816-472D-953C-B5F574B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4BB8-D8DF-4D05-A3E2-1E3BE584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255C-60BF-40BF-BF23-C8E77EF6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BE11-3A67-4977-AD70-DC6DA310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266C-E5FC-4F54-BC15-78295D94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2E427-79DF-43E4-898F-E75DFD67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C803-B922-4C91-AFC5-70D8750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DF7F-41E0-4010-B799-D5BD47B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D5A-153F-4EBE-83CA-3BD46EC8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EA531-7C8F-4B7F-AAB9-404A5778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236D-F4FB-45EC-9375-A858D916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49CC-EC38-4DB2-89E2-8D03202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5D5AD-5A2B-4772-B41C-FCBAAFAB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5F6C-F591-4F5B-9D22-1F49264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A934-2F79-4194-9873-012385C8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983F-C965-494D-9614-33B8FF73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408A1-C7A2-4C34-8978-5EFF3538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0B57-ADC3-430F-A9ED-6E8A278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2B59-D470-4C4B-B638-52B73835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DE2E-F461-4D1E-8359-3D822B1B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E0A1-7945-4C26-A0D9-3C6F5C36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1924-8FB1-442F-B1A9-67524F8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1E7C-E06D-499B-8058-DB24FB51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BB8A5-A745-4540-888E-44F26CA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4E8F-6240-44B0-AEE9-750E97C9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964D-AF9E-4C40-98C3-3C53347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0241-79D8-43F1-B355-39720BE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6B40-33A2-4A92-A0AD-4A18BEFA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FC623-B25B-480A-BDD1-941FE5E6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4058A-6ACD-46B4-B9D7-9719AC5C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B84-C19F-4F46-B03A-C3A5E301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7425-2AC0-4715-ADB0-E4B64778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E3A7-BF44-4DF1-95E2-7DF1C9DF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073CD-EEDB-40CC-A63A-42ECC25D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B220-D888-4224-8EC1-53A19B2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42AE6-C638-41D8-821C-98EB60A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58563-01BD-40B2-9B3B-ED737214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08ED-34D8-436A-96C3-67C2760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D63E-9009-4E5B-A65D-4EAA5259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F569-4E81-45FB-8C83-6DA1C589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6D1EB-DE70-4964-AEC0-D1243B12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AA3-ACBB-469D-822E-3B8D550F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0E1D2-F333-4788-8E8B-061CC31C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1ACA-E319-4E57-8C14-DCE5378AF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A1D0-A094-4AF3-80B2-E87B9EA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78D6F-0F1A-4693-B676-227C4ABE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DE846-355A-4FC7-96D9-8FFB761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5068-ADA1-421B-AED6-56DC4FA2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5BC7C-44A2-4925-9480-BBFACF37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6229F-A0FB-4643-8B5B-7AA26F4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B0C44-C184-40BA-8640-FA6BE4DE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49EA5-2509-4B4F-ABBC-6252843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F1C-630F-4FF6-AB30-2413DB7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5C6FE-9777-44E6-96A7-97362C2F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54D1-9387-42D8-BE73-C6DBE9D0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8C5C-AE68-4811-94EE-EEEA9DE6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8D32-9F0C-497E-B487-EF9CAF9A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798CA-BE00-4245-8D2B-B0944054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5693-2D66-496A-93D1-4ACC15A4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A590B-630E-4F32-97A6-72E6646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C47B-6DED-4652-B8AC-C2A7130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43764-D90D-42E6-AE4C-F66F706F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ACF51-4FC1-45BC-81C4-CE59419D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ABD-94DB-485A-A089-BC6CD28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549B-1D94-4DF0-8197-DC135E7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15333-9222-455D-9381-93AE7C0B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22721-1903-48B7-98C8-5336F160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3F38-3E39-4314-B69F-686DF818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2FC8A-BB74-430D-BC7A-FF344D07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759-651A-4788-8EF6-374DDB1B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45B9-7714-44AF-A3CE-7E3C42AF88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15A8-FED6-4224-87F1-D2B2F4B28CA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7208-B709-4F0C-A84E-AF000F65CDF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D41E-B6A3-493F-AC07-079638B9B6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DB40-31ED-4352-8D8D-3CDC45828A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B48-1A64-422E-8E96-4D6119C9393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CD2-E26C-4859-90EF-15EFD862B26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oher.ru/nat-volokna/sherst.shtml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3" descr="C:\Users\Настя\Desktop\1246604429_1869b.jpg"/>
          <p:cNvPicPr/>
          <p:nvPr/>
        </p:nvPicPr>
        <p:blipFill>
          <a:blip r:embed="rId1"/>
          <a:stretch/>
        </p:blipFill>
        <p:spPr>
          <a:xfrm>
            <a:off x="1116000" y="189000"/>
            <a:ext cx="4194360" cy="6048360"/>
          </a:xfrm>
          <a:prstGeom prst="rect">
            <a:avLst/>
          </a:prstGeom>
          <a:ln w="0">
            <a:noFill/>
          </a:ln>
        </p:spPr>
      </p:pic>
      <p:sp>
        <p:nvSpPr>
          <p:cNvPr id="319" name="WordArt 5"/>
          <p:cNvSpPr txBox="1"/>
          <p:nvPr/>
        </p:nvSpPr>
        <p:spPr>
          <a:xfrm>
            <a:off x="214200" y="3643200"/>
            <a:ext cx="8713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ирты. Польза и вре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556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енная промышленность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57160" y="1500120"/>
            <a:ext cx="6858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троглицерин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основной компонент динамита, применяемого в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орном деле;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железнодорожно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троительстве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фармаколог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киноиндустр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5" descr="C:\Users\Настя\Desktop\динамит.jpg"/>
          <p:cNvPicPr/>
          <p:nvPr/>
        </p:nvPicPr>
        <p:blipFill>
          <a:blip r:embed="rId1"/>
          <a:stretch/>
        </p:blipFill>
        <p:spPr>
          <a:xfrm>
            <a:off x="5003640" y="2786040"/>
            <a:ext cx="3926160" cy="364320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7153200" y="214200"/>
            <a:ext cx="177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79640" y="1989000"/>
            <a:ext cx="511344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троглицери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213920" y="2857320"/>
            <a:ext cx="7410600" cy="34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ен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542880" indent="-54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резвычайно мощное и опасное в получении взрывчатое вещество – взрывается от удара, толчка, перепада температуры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4" name="Picture 2" descr="C:\Documents and Settings\Admin\Рабочий стол\Новая папка\bottle.jpg"/>
          <p:cNvPicPr/>
          <p:nvPr/>
        </p:nvPicPr>
        <p:blipFill>
          <a:blip r:embed="rId1"/>
          <a:stretch/>
        </p:blipFill>
        <p:spPr>
          <a:xfrm>
            <a:off x="7143840" y="285840"/>
            <a:ext cx="1834920" cy="2638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Admin\Рабочий стол\10а\200px-Nirtoglycerin_3D_BallStick.png"/>
          <p:cNvPicPr/>
          <p:nvPr/>
        </p:nvPicPr>
        <p:blipFill>
          <a:blip r:embed="rId2"/>
          <a:stretch/>
        </p:blipFill>
        <p:spPr>
          <a:xfrm>
            <a:off x="225360" y="609480"/>
            <a:ext cx="3194280" cy="25671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Documents and Settings\Admin\Рабочий стол\10а\5175339_1_3.jpg"/>
          <p:cNvPicPr/>
          <p:nvPr/>
        </p:nvPicPr>
        <p:blipFill>
          <a:blip r:embed="rId3"/>
          <a:stretch/>
        </p:blipFill>
        <p:spPr>
          <a:xfrm>
            <a:off x="3571920" y="4500720"/>
            <a:ext cx="3786120" cy="185724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6"/>
          <p:cNvSpPr/>
          <p:nvPr/>
        </p:nvSpPr>
        <p:spPr>
          <a:xfrm>
            <a:off x="1370520" y="2858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щевая промышленность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71360" y="928440"/>
            <a:ext cx="4214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но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дитерских изделиях,  придает   мягкос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рби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людей, больных диабетом и страдающих  ожирени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ет консистенцию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для получения пищевых ПА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C:\Users\Настя\Desktop\image.24037.jpg"/>
          <p:cNvPicPr/>
          <p:nvPr/>
        </p:nvPicPr>
        <p:blipFill>
          <a:blip r:embed="rId1"/>
          <a:stretch/>
        </p:blipFill>
        <p:spPr>
          <a:xfrm>
            <a:off x="6929280" y="1643040"/>
            <a:ext cx="1785960" cy="1868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Настя\Desktop\1173977852.jpg"/>
          <p:cNvPicPr/>
          <p:nvPr/>
        </p:nvPicPr>
        <p:blipFill>
          <a:blip r:embed="rId2"/>
          <a:stretch/>
        </p:blipFill>
        <p:spPr>
          <a:xfrm>
            <a:off x="5000760" y="164304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Настя\Desktop\1084193395_big.jpg"/>
          <p:cNvPicPr/>
          <p:nvPr/>
        </p:nvPicPr>
        <p:blipFill>
          <a:blip r:embed="rId3"/>
          <a:stretch/>
        </p:blipFill>
        <p:spPr>
          <a:xfrm>
            <a:off x="5214960" y="3857760"/>
            <a:ext cx="3143160" cy="22525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9"/>
          <p:cNvSpPr/>
          <p:nvPr/>
        </p:nvSpPr>
        <p:spPr>
          <a:xfrm>
            <a:off x="7509240" y="2142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C:\Users\Настя\Desktop\топлевные смеси этанола.jpeg"/>
          <p:cNvPicPr/>
          <p:nvPr/>
        </p:nvPicPr>
        <p:blipFill>
          <a:blip r:embed="rId1"/>
          <a:srcRect l="0" t="0" r="0" b="15389"/>
          <a:stretch/>
        </p:blipFill>
        <p:spPr>
          <a:xfrm>
            <a:off x="3286080" y="128592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386" name="Заголовок 1" descr=""/>
          <p:cNvPicPr/>
          <p:nvPr/>
        </p:nvPicPr>
        <p:blipFill>
          <a:blip r:embed="rId2"/>
          <a:stretch/>
        </p:blipFill>
        <p:spPr>
          <a:xfrm>
            <a:off x="1420920" y="420840"/>
            <a:ext cx="5583240" cy="10000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4"/>
          <p:cNvSpPr/>
          <p:nvPr/>
        </p:nvSpPr>
        <p:spPr>
          <a:xfrm>
            <a:off x="1214280" y="4286160"/>
            <a:ext cx="717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ff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Добавление этанола к бензину повышает его октановое число, </a:t>
            </a:r>
            <a:br>
              <a:rPr sz="3200"/>
            </a:br>
            <a:r>
              <a:rPr b="0" lang="ru-RU" sz="3200" spc="-1" strike="noStrike">
                <a:solidFill>
                  <a:srgbClr val="4f271c"/>
                </a:solidFill>
                <a:latin typeface="Corbel"/>
              </a:rPr>
              <a:t>т.е. увеличивает детонационную устойчив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4"/>
          <p:cNvSpPr/>
          <p:nvPr/>
        </p:nvSpPr>
        <p:spPr>
          <a:xfrm>
            <a:off x="7437960" y="285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76360" y="549360"/>
            <a:ext cx="639144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ано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115640" y="3357720"/>
            <a:ext cx="769788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витое действие метанола на организм человека связано с поражением нервной и сосудистой системы. Прием внутрь 5–10 мл метанола приводит к тяжелому отравлению (одно из последствий -– слепота), а 30 мл и более -– к смер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оздухом метанол образует взрывоопасные смес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1" name="Picture 3" descr="C:\Documents and Settings\Admin\Рабочий стол\10а\methanol.gif"/>
          <p:cNvPicPr/>
          <p:nvPr/>
        </p:nvPicPr>
        <p:blipFill>
          <a:blip r:embed="rId1"/>
          <a:stretch/>
        </p:blipFill>
        <p:spPr>
          <a:xfrm>
            <a:off x="5407200" y="73080"/>
            <a:ext cx="3833640" cy="273060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4"/>
          <p:cNvSpPr/>
          <p:nvPr/>
        </p:nvSpPr>
        <p:spPr>
          <a:xfrm>
            <a:off x="1040760" y="264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Corbe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ая промышлен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71720" y="1523520"/>
            <a:ext cx="52862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енглико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компонентом антифриза и стеклоомывателе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, содержащий 25 % этиленгликоля, замерзает при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, а 55 %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ит сырьём для получения ацетальдегида, диэтилового эфира,  уксусной кислоты, хлороформа, этилацетата, этиле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43640" y="1139760"/>
            <a:ext cx="2054160" cy="422424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4"/>
          <p:cNvSpPr/>
          <p:nvPr/>
        </p:nvSpPr>
        <p:spPr>
          <a:xfrm>
            <a:off x="7080480" y="2142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ильная промышленнос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786040" y="1285920"/>
            <a:ext cx="62150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сан – продукт поликонденсаци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енгликол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ухатомного спирта)  с терефталевой кислот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е лавсан похож на </a:t>
            </a:r>
            <a:r>
              <a:rPr b="0" lang="ru-RU" sz="2400" spc="-1" strike="noStrike" u="sng">
                <a:solidFill>
                  <a:srgbClr val="8dc765"/>
                </a:solidFill>
                <a:uFillTx/>
                <a:latin typeface="Times New Roman"/>
                <a:ea typeface="Times New Roman"/>
                <a:hlinkClick r:id="rId1"/>
              </a:rPr>
              <a:t>шер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более ноский и значительно меньше мнется, снижает способность ткани к усадк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сан используется для производства ремней, парусов, занавес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 rot="4069200">
            <a:off x="850680" y="3662280"/>
            <a:ext cx="1484280" cy="28368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4"/>
          <p:cNvSpPr/>
          <p:nvPr/>
        </p:nvSpPr>
        <p:spPr>
          <a:xfrm>
            <a:off x="7152120" y="21420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Гидрохино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43000" y="5000760"/>
            <a:ext cx="7786800" cy="142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25320" indent="-598320"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Ароматический спирт </a:t>
            </a:r>
            <a:br>
              <a:rPr sz="2400"/>
            </a:b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используют при проявлении фотографий</a:t>
            </a: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3" name="Picture 2" descr="C:\Users\Настя\Desktop\Gidroxinon.jpg"/>
          <p:cNvPicPr/>
          <p:nvPr/>
        </p:nvPicPr>
        <p:blipFill>
          <a:blip r:embed="rId1"/>
          <a:stretch/>
        </p:blipFill>
        <p:spPr>
          <a:xfrm>
            <a:off x="5357880" y="1428840"/>
            <a:ext cx="2981160" cy="3286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04" name="Прямоугольник 4"/>
          <p:cNvSpPr/>
          <p:nvPr/>
        </p:nvSpPr>
        <p:spPr>
          <a:xfrm>
            <a:off x="7223400" y="285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C:\Documents and Settings\папа\Рабочий стол\68.jpg"/>
          <p:cNvPicPr/>
          <p:nvPr/>
        </p:nvPicPr>
        <p:blipFill>
          <a:blip r:embed="rId2"/>
          <a:stretch/>
        </p:blipFill>
        <p:spPr>
          <a:xfrm>
            <a:off x="2714760" y="2500200"/>
            <a:ext cx="2928960" cy="2333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2681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2640" y="764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олучение феноло-формальдегидной смол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187280" y="3141720"/>
            <a:ext cx="7805880" cy="328752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5"/>
          <p:cNvSpPr/>
          <p:nvPr/>
        </p:nvSpPr>
        <p:spPr>
          <a:xfrm>
            <a:off x="7528320" y="260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Спасибо за внимание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арфюмерия и космети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116000" y="4357800"/>
            <a:ext cx="76708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ты являются универсальными растворителями различных веществ и основными компонентами духов, одеколонов, аэрозол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597040" cy="3000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323" name="Прямоугольник 4"/>
          <p:cNvSpPr/>
          <p:nvPr/>
        </p:nvSpPr>
        <p:spPr>
          <a:xfrm>
            <a:off x="7223400" y="2858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C:\Documents and Settings\Admin\Рабочий стол\10а\ethanol.jpg"/>
          <p:cNvPicPr/>
          <p:nvPr/>
        </p:nvPicPr>
        <p:blipFill>
          <a:blip r:embed="rId1"/>
          <a:stretch/>
        </p:blipFill>
        <p:spPr>
          <a:xfrm>
            <a:off x="5796000" y="4581360"/>
            <a:ext cx="3108240" cy="2022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но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71720" y="1447560"/>
            <a:ext cx="7500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нол взаимодействует почти со всеми лекарственными препаратами, что наносит огромный вред организм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анальгетиков (анальгин,  парацетамол) вместе со спиртными напитками приводит к тахикардии, появлению вялости, шума в ушах, может вызвать тяжёлые поражения печен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яжелом отравлении этанолом наблюдаетс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атозное состояни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а бледная, влажная, дыхание редкое, пульс частый, температура тела понижен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447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10" descr="j0304421"/>
          <p:cNvPicPr/>
          <p:nvPr/>
        </p:nvPicPr>
        <p:blipFill>
          <a:blip r:embed="rId2"/>
          <a:stretch/>
        </p:blipFill>
        <p:spPr>
          <a:xfrm>
            <a:off x="1476360" y="4508640"/>
            <a:ext cx="2143080" cy="2090520"/>
          </a:xfrm>
          <a:prstGeom prst="rect">
            <a:avLst/>
          </a:prstGeom>
          <a:ln w="0">
            <a:noFill/>
          </a:ln>
        </p:spPr>
      </p:pic>
      <p:pic>
        <p:nvPicPr>
          <p:cNvPr id="328" name="Object 3" descr=""/>
          <p:cNvPicPr/>
          <p:nvPr/>
        </p:nvPicPr>
        <p:blipFill>
          <a:blip r:embed="rId3"/>
          <a:stretch/>
        </p:blipFill>
        <p:spPr>
          <a:xfrm>
            <a:off x="7715160" y="142920"/>
            <a:ext cx="1222560" cy="151272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6"/>
          <p:cNvSpPr/>
          <p:nvPr/>
        </p:nvSpPr>
        <p:spPr>
          <a:xfrm>
            <a:off x="1370520" y="21420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5"/>
          <p:cNvSpPr/>
          <p:nvPr/>
        </p:nvSpPr>
        <p:spPr>
          <a:xfrm>
            <a:off x="6659640" y="2637000"/>
            <a:ext cx="1944720" cy="1079280"/>
          </a:xfrm>
          <a:prstGeom prst="rect">
            <a:avLst/>
          </a:prstGeom>
          <a:solidFill>
            <a:srgbClr val="fc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924360" y="2637000"/>
            <a:ext cx="1944720" cy="1079280"/>
          </a:xfrm>
          <a:prstGeom prst="rect">
            <a:avLst/>
          </a:prstGeom>
          <a:solidFill>
            <a:srgbClr val="fc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1187280" y="2637000"/>
            <a:ext cx="1800360" cy="1079280"/>
          </a:xfrm>
          <a:prstGeom prst="rect">
            <a:avLst/>
          </a:prstGeom>
          <a:solidFill>
            <a:srgbClr val="fcd38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5508720" y="1413000"/>
            <a:ext cx="2448000" cy="1079280"/>
          </a:xfrm>
          <a:prstGeom prst="ellipse">
            <a:avLst/>
          </a:prstGeom>
          <a:solidFill>
            <a:srgbClr val="94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1"/>
          <p:cNvSpPr/>
          <p:nvPr/>
        </p:nvSpPr>
        <p:spPr>
          <a:xfrm>
            <a:off x="1692360" y="1413000"/>
            <a:ext cx="2448000" cy="1079280"/>
          </a:xfrm>
          <a:prstGeom prst="ellipse">
            <a:avLst/>
          </a:prstGeom>
          <a:solidFill>
            <a:srgbClr val="94e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4"/>
          <p:cNvSpPr/>
          <p:nvPr/>
        </p:nvSpPr>
        <p:spPr>
          <a:xfrm>
            <a:off x="1258920" y="4653000"/>
            <a:ext cx="7424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под действием фермента алкогольдегидрогеназа превращается в  ацетальдегид. Это вещество более ядовитое, чем сам алкоголь.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941760" y="2858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2411280" y="2133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477440" y="2924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ловы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2126160" y="16286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идроген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5942520" y="162864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ьдегид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идроген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4067640" y="29973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альдег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6949800" y="29973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етат-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987640" y="321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5867280" y="3213000"/>
            <a:ext cx="8654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348000" y="2276640"/>
            <a:ext cx="7164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 flipH="1">
            <a:off x="6227640" y="2276640"/>
            <a:ext cx="14472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28480" y="571320"/>
            <a:ext cx="74991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чина влияния этилового спирта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интеллект человека</a:t>
            </a:r>
            <a:br>
              <a:rPr sz="34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4280" y="1428480"/>
            <a:ext cx="749952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вызывает эйфорию. Это наркотик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ь замедляет циркуляцию крови в сосудах мозга, приводит к постоянному кислородному голоданию его клеток, в результате у человека наблюдается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лабление памяти и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ленная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ическая </a:t>
            </a:r>
            <a:br>
              <a:rPr sz="2200"/>
            </a:b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градация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Рисунок1"/>
          <p:cNvPicPr/>
          <p:nvPr/>
        </p:nvPicPr>
        <p:blipFill>
          <a:blip r:embed="rId1"/>
          <a:stretch/>
        </p:blipFill>
        <p:spPr>
          <a:xfrm>
            <a:off x="5065560" y="3054240"/>
            <a:ext cx="3524400" cy="343872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155880" y="21420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1640" y="1052280"/>
            <a:ext cx="74991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Влияние алкоголя на организм человек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1332000" y="3357720"/>
            <a:ext cx="38163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вы в кишеч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к желу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к к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3"/>
          <p:cNvSpPr/>
          <p:nvPr/>
        </p:nvSpPr>
        <p:spPr>
          <a:xfrm>
            <a:off x="584640" y="28584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Documents and Settings\Admin\Рабочий стол\10а\opukh-kosh.jpg"/>
          <p:cNvPicPr/>
          <p:nvPr/>
        </p:nvPicPr>
        <p:blipFill>
          <a:blip r:embed="rId1"/>
          <a:stretch/>
        </p:blipFill>
        <p:spPr>
          <a:xfrm>
            <a:off x="4716360" y="2565360"/>
            <a:ext cx="3214800" cy="164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499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вной</a:t>
            </a:r>
            <a:r>
              <a:rPr b="0" lang="ru-RU" sz="3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алкоголизм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31640" y="2852280"/>
            <a:ext cx="7499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ужчин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гормон метилтестостеро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стаются грудные желез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ется «пивной» живо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женщин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ет вероятность заболевания раком грудной желез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еет голос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ус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2" descr="C:\Documents and Settings\Admin\Рабочий стол\Новая папка\pe02514_.gif"/>
          <p:cNvPicPr/>
          <p:nvPr/>
        </p:nvPicPr>
        <p:blipFill>
          <a:blip r:embed="rId1"/>
          <a:stretch/>
        </p:blipFill>
        <p:spPr>
          <a:xfrm>
            <a:off x="6143760" y="114300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1370520" y="14292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Обвинит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ая промышленность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47280" y="1341000"/>
            <a:ext cx="71694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иловый спирт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5600" indent="-266760" algn="r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используется как антисептик  (обеззараживающее) и подсушивающее средство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 algn="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хороший растворитель для некоторых                     лекарственных вещест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 algn="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творения веществ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т влажность таблеткам и пилюлям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яет от высыхания маз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рем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Настя\Desktop\artra.jpg"/>
          <p:cNvPicPr/>
          <p:nvPr/>
        </p:nvPicPr>
        <p:blipFill>
          <a:blip r:embed="rId1"/>
          <a:stretch/>
        </p:blipFill>
        <p:spPr>
          <a:xfrm>
            <a:off x="6076800" y="3486240"/>
            <a:ext cx="2122560" cy="2079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Настя\Desktop\f_16735159.jpg"/>
          <p:cNvPicPr/>
          <p:nvPr/>
        </p:nvPicPr>
        <p:blipFill>
          <a:blip r:embed="rId2"/>
          <a:stretch/>
        </p:blipFill>
        <p:spPr>
          <a:xfrm rot="240600">
            <a:off x="1692000" y="2060640"/>
            <a:ext cx="1498680" cy="2401920"/>
          </a:xfrm>
          <a:prstGeom prst="rect">
            <a:avLst/>
          </a:prstGeom>
          <a:ln w="0">
            <a:noFill/>
          </a:ln>
        </p:spPr>
      </p:pic>
      <p:sp>
        <p:nvSpPr>
          <p:cNvPr id="363" name="Прямоугольник 5"/>
          <p:cNvSpPr/>
          <p:nvPr/>
        </p:nvSpPr>
        <p:spPr>
          <a:xfrm>
            <a:off x="6795000" y="1429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00080" y="1356840"/>
            <a:ext cx="5929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В текстильной и кожевенной промышленност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ает тканям мягкость и эластичност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для дубления ко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ся  для консервирования ко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храняет кожи от высыха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6357960" y="1000080"/>
            <a:ext cx="2571840" cy="278604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6866280" y="3571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«Адвока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52:46Z</dcterms:created>
  <dc:creator>Настя</dc:creator>
  <dc:description/>
  <dc:language>en-US</dc:language>
  <cp:lastModifiedBy>кабинет химии</cp:lastModifiedBy>
  <dcterms:modified xsi:type="dcterms:W3CDTF">2015-04-10T04:29:52Z</dcterms:modified>
  <cp:revision>90</cp:revision>
  <dc:subject/>
  <dc:title>Полезные качества спиртов</dc:title>
</cp:coreProperties>
</file>